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FAD0-2CDD-4142-A9BA-CC244DBCA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DBCD-396F-470E-950A-B6D9373CF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70C9-FC9F-4F4F-B57A-A11B57BE8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6B88-94F8-41A2-B3A1-E413B9BC4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F758-BD04-473D-BF29-A0A978BE1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6416-8B43-4A48-BA9F-881765F8D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i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00560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73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914520" y="6323400"/>
            <a:ext cx="179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97240" y="63234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00884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23:16Z</dcterms:modified>
  <cp:revision>33</cp:revision>
  <dc:subject/>
  <dc:title>lesson three</dc:title>
</cp:coreProperties>
</file>